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3.jpeg" ContentType="image/jpeg"/>
  <Override PartName="/ppt/media/image14.gif" ContentType="image/gif"/>
  <Override PartName="/ppt/media/image2.jpeg" ContentType="image/jpeg"/>
  <Override PartName="/ppt/media/image8.gif" ContentType="image/gif"/>
  <Override PartName="/ppt/media/image5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4FB-66AE-4B8A-9088-98B2813C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780-EBF2-4B59-9311-9359A925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DFD-4871-4F72-8F14-E2396058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3AD8-5121-43AA-A9EF-09387214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A0D7-2A88-4960-A78A-D1F62D6B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951E-3394-40DB-8267-2BA21F24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E64A-CF60-4774-9929-0397018E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9954-1E62-4E63-8EBE-7778E0C9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B442-B7D0-45C7-8D87-E9FDBB54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A7D6-FBEE-4D66-A4F1-3DC5CC93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DAC0-AB5F-412F-ADBD-DBD0E10D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332-5794-45D0-94E1-21E1CDD6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8872-5615-44AC-BD69-F4051A89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CA1C-1FB9-498F-A3CE-E79CAB3E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D4A5-964A-4DFE-AAAE-9AA8BA93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7943-D964-44B2-BDF4-02510C69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AB29-A3AF-4953-A95F-C6B244E6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C302-1509-4A53-8297-AF3A0B44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D2E96-68D7-42C5-A4E1-518E661E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07D98-0EBA-4B3B-A80B-FD884EDA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4D03-28BB-436A-9FEC-B8B7DE93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3EF9-3A2A-4566-AAF1-4DBC90D4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24C-E564-469F-9A2A-B26255AA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565B-C386-44A9-AD97-A830AD4A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5021-5E2C-4247-8F52-6A0BB201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59514-6A72-46E3-A5FD-97F649C0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E98B2-5C91-472E-8D25-4EE30880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933C5-8571-4E60-B8EA-24143624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80A7D-DEDC-443D-8D9A-49E924BA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F907-F847-4704-A8CA-359363EA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9EBA7-3309-4C89-9631-16B34C9C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DA4CA-D56F-4795-A855-C589A91A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51A78-31AC-4E2C-9C9F-AAE8E5AE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85A-0140-4898-A65F-7880273F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7C512-75C2-467E-AE0B-0B9C27A1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7E2B1-A83A-468F-8969-662E1F34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A5BF7-3016-4107-AFCF-D382DD3A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52423-AA6E-48F5-9746-C041D0C5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E69E8-9720-4CAE-96D6-1F110781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EE66F-7031-4672-B83F-E99A3562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F3276-3EF5-4471-AB31-7243A8EA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FEE8E-11E3-4880-9634-7B71C318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4BDE0-6FD5-4C5F-A509-86B293F1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659D1-6954-46D0-98D5-2EBBB23D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6EF-962C-4815-8110-CE0EF270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CD778-38A6-4984-A3E9-DAD44309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FCF9B-2321-4C42-834A-8F37DF9A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FD360-AD59-40F2-8521-0361DCFF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20B62-2525-4E81-AC9B-FA699A44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FEE45-7EF5-46DC-BD1B-77A5AB6F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E0A82-60F1-4BA2-9222-7515DBD4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F7B24-B050-4B10-9564-3C394EB3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979CC-88DB-4BB2-A505-4B9EDBFA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778CD-5C92-403E-8AF2-2F8D5E4F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9A12F-369C-47EB-9F29-CF7952EC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4E77-A7EE-456C-8865-075752F2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B558C-216E-4B95-A44F-A2FE2529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E9369-A77D-467F-9CCD-86E3BE50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C752F-16FE-4AC4-9E50-677224BD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215A9-C600-4763-A144-AE453F23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6E834-8C3F-47AA-8348-2C40E64B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BBED4-916D-4E82-AAE5-FF098264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2E191-0494-4FB6-8B0C-ABF0DC67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B5A9C-D0D0-49BC-B685-0BCF995F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8EB98-1CC3-4EB8-8EFA-5BD6AF42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ADD44-0BFB-45F9-A222-DD6606CD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C85-E623-4633-9996-A05F59D7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E8005-8D52-4226-859D-863ADB0A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15085-9308-4DCA-99D8-185A1DC1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2DC4F-07F2-41D4-B03A-64973053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406D3-EB01-4B0A-8B3D-1EF94E15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CED4A-4B02-4359-817D-B342A0F4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928A8-65F3-4081-A030-38504448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6F4B6-ABBD-43B2-80C8-13706E29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269FD-33EF-49AC-900D-6D17C59E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71115A-D414-4168-8795-81897F63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00F9FD-0896-4400-B1E4-D12240E4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584-1ACF-463C-8D02-96EF7305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A69BB5-590A-47D3-BEF8-EB54F223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D7D87-4390-4F0F-A3ED-AD670792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7C45B2-C2E4-4E1B-A3B8-0FF506DF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5E92C1-757D-4D9B-A196-AA693F93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BFC81-96DF-4574-8A42-6D748E8C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4D6-B1E1-4B5D-9CDF-BAAE3667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B319-5724-4A74-9E37-9A1565C7E79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3839-C49A-42C1-98A6-8A9CD43B5A3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0C81-0403-486E-B8C5-259CC2F9160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CE27-BBFD-4E29-B4C1-FE3F015FEDB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8F4C-DDF9-425C-99EB-427E848171F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77E0-4CDE-4971-8028-D7FCBE4BACE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2EEE-41E9-4B9F-98A4-C1594187CDF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603360" y="324000"/>
            <a:ext cx="8248680" cy="20588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52388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nstructivist Approach to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0" descr="small_bulb"/>
          <p:cNvPicPr/>
          <p:nvPr/>
        </p:nvPicPr>
        <p:blipFill>
          <a:blip r:embed="rId2"/>
          <a:stretch/>
        </p:blipFill>
        <p:spPr>
          <a:xfrm>
            <a:off x="3429000" y="2438280"/>
            <a:ext cx="2235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4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allow students to use their new knowledge and continue to explore its im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knowledge to other situ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consider the effects of thei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to their own wor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relate to other concep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MCj03980690000[1]"/>
          <p:cNvPicPr/>
          <p:nvPr/>
        </p:nvPicPr>
        <p:blipFill>
          <a:blip r:embed="rId1"/>
          <a:stretch/>
        </p:blipFill>
        <p:spPr>
          <a:xfrm>
            <a:off x="6934320" y="1905120"/>
            <a:ext cx="1806480" cy="1527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MCj02958790000[1]"/>
          <p:cNvPicPr/>
          <p:nvPr/>
        </p:nvPicPr>
        <p:blipFill>
          <a:blip r:embed="rId2"/>
          <a:stretch/>
        </p:blipFill>
        <p:spPr>
          <a:xfrm>
            <a:off x="6858000" y="4114800"/>
            <a:ext cx="18795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given a set of scenarios, including different disorders of the digestive system, digestion of organic compounds, etc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pply their knowledge of the digestive system to these scenarios to figure out what is going 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1324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5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oth students and teachers determine how much learning and understanding has taken pl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f-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er observ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ility to apply to other top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ance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rtfol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br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MMj02866740000[1]"/>
          <p:cNvPicPr/>
          <p:nvPr/>
        </p:nvPicPr>
        <p:blipFill>
          <a:blip r:embed="rId1"/>
          <a:stretch/>
        </p:blipFill>
        <p:spPr>
          <a:xfrm>
            <a:off x="5943600" y="2895480"/>
            <a:ext cx="1441440" cy="1905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MMj02831940000[1]"/>
          <p:cNvPicPr/>
          <p:nvPr/>
        </p:nvPicPr>
        <p:blipFill>
          <a:blip r:embed="rId2"/>
          <a:stretch/>
        </p:blipFill>
        <p:spPr>
          <a:xfrm>
            <a:off x="7238880" y="4876920"/>
            <a:ext cx="15526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responses to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28479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structivism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2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Constructivism is a philosophy about learning that proposes learners need to build their own understanding of new ideas.”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Source: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http://iisme.5ecommunity.org/index.php?area_id=56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MPj03829910000[1]"/>
          <p:cNvPicPr/>
          <p:nvPr/>
        </p:nvPicPr>
        <p:blipFill>
          <a:blip r:embed="rId1"/>
          <a:stretch/>
        </p:blipFill>
        <p:spPr>
          <a:xfrm>
            <a:off x="3657600" y="3962520"/>
            <a:ext cx="179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5e’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g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t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alu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5e model was originally proposed by the BSCS (Biological Science Curriculum Study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content_cd"/>
          <p:cNvPicPr/>
          <p:nvPr/>
        </p:nvPicPr>
        <p:blipFill>
          <a:blip r:embed="rId1"/>
          <a:stretch/>
        </p:blipFill>
        <p:spPr>
          <a:xfrm>
            <a:off x="4648320" y="1752480"/>
            <a:ext cx="37335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1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peak student interest and get them personally involved in the less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ess prio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es curios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to ask the WHY ques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ivates students to lea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at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MCj04042630000[1]"/>
          <p:cNvPicPr/>
          <p:nvPr/>
        </p:nvPicPr>
        <p:blipFill>
          <a:blip r:embed="rId1"/>
          <a:stretch/>
        </p:blipFill>
        <p:spPr>
          <a:xfrm>
            <a:off x="5748480" y="3014640"/>
            <a:ext cx="18381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 Without a Stomach Vid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905200" cy="30956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4038480" y="2362320"/>
            <a:ext cx="4038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atch a 4 ½ minute video about Jonas, a man who attempted to commit suicide by swallowing bleach. In doing so, Jonas lost many of the organs of his digestive system, including his stomach. Jonas undergoes a radical procedure, in which his intestine is connected to his esophag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are then asked to generate questions they have about Jonas’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2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get students involved in the topic; providing them with a chance to find the solution for themsel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work togeth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must make their own deci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generate questions and ideas while within the situation or probl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11" descr="MCPE03230_0000[1]"/>
          <p:cNvPicPr/>
          <p:nvPr/>
        </p:nvPicPr>
        <p:blipFill>
          <a:blip r:embed="rId1"/>
          <a:stretch/>
        </p:blipFill>
        <p:spPr>
          <a:xfrm>
            <a:off x="5943600" y="2819520"/>
            <a:ext cx="2840040" cy="1393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MMj03957550000[1]"/>
          <p:cNvPicPr/>
          <p:nvPr/>
        </p:nvPicPr>
        <p:blipFill>
          <a:blip r:embed="rId2"/>
          <a:stretch/>
        </p:blipFill>
        <p:spPr>
          <a:xfrm>
            <a:off x="6248520" y="5181480"/>
            <a:ext cx="22096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partnered up and work through a series of questions about the digestive system with the assistance of their textbook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 are based on Jonas’ situa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choose 2 questions from the prior brainstorming to answer in addition to the questions the teacher handed ou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3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tudents are given a chance to take what they have learned so far and figure out what it me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re asked to explain their experi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ass discussion is he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questions are gener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definitions are explo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4" descr="MCj03605160000[1]"/>
          <p:cNvPicPr/>
          <p:nvPr/>
        </p:nvPicPr>
        <p:blipFill>
          <a:blip r:embed="rId1"/>
          <a:stretch/>
        </p:blipFill>
        <p:spPr>
          <a:xfrm>
            <a:off x="6095880" y="1981080"/>
            <a:ext cx="2649600" cy="1632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MCj03907920000[1]"/>
          <p:cNvPicPr/>
          <p:nvPr/>
        </p:nvPicPr>
        <p:blipFill>
          <a:blip r:embed="rId2"/>
          <a:stretch/>
        </p:blipFill>
        <p:spPr>
          <a:xfrm>
            <a:off x="6324480" y="4419720"/>
            <a:ext cx="228600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ass goes over their findings, with the teacher facilitating the discussion and correcting misconceptions a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share the answers to the questions that they ch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have a diagram of the digestive system that they can use to fill in important points as they come up in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has a supplementary power point to illustrate student fi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50:14Z</dcterms:created>
  <dc:creator>elpalme</dc:creator>
  <dc:description/>
  <dc:language>en-US</dc:language>
  <cp:lastModifiedBy>elpalme</cp:lastModifiedBy>
  <dcterms:modified xsi:type="dcterms:W3CDTF">2011-01-28T18:59:15Z</dcterms:modified>
  <cp:revision>5</cp:revision>
  <dc:subject/>
  <dc:title>The 5e Instructional Model</dc:title>
</cp:coreProperties>
</file>